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D55B-D609-436E-9CD9-1DC9083E9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824B-2CD6-40A9-9B1F-24C4D7FF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94C5-C4D1-4214-9349-9F9E848C5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AF36-E114-47C7-A2AD-304F45061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E1FD-1152-4976-B780-912778F66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5E3B-DCCE-4CAB-B00F-3C005E6D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6AEF-1E97-4634-9E60-5E86A20C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3B876-115D-4C40-9F27-A659C4F4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C553-DBD5-4702-A5DF-A481B34E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FA33-215F-4153-A5F2-DD7ACCE9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CF9B-0E69-4018-95B7-CD599A8D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60D6-CA3C-4992-83DD-993FC62B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13EA-22E7-43BF-A04D-13D323E6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F2261-842F-4772-B113-538B7B65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0AD25-392B-4BB2-AC84-77557807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4E64-307A-4D77-8C9A-EA28F79BA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4156-401D-4103-A0B0-2839EEC59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7E70-EBE5-474C-AD17-359AE607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CA40-25D0-4827-BB68-5D1ADEEA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3158-01E5-424B-9B81-5B0090E2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7417-87CE-4540-A4F2-EDD48B1D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0943-8E94-4AA9-B549-7CB26417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AEFB-70F6-4C80-9CA2-8D076CBD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5304-C77E-4BDF-83EF-5499080B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716E-F5DD-4E50-9BC5-A12CC29BEF8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B356-3276-4887-AA4D-3825D9E954D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Molotov.bra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en.wikipedia.org/wiki/Image:Harry-truman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otsdam_conference_1945-8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c/Eastern-Europe-small.png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hapter 15: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The Cold War Begin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F.  President Truman</a:t>
            </a:r>
            <a:br>
              <a:rPr sz="3600"/>
            </a:br>
            <a:r>
              <a:rPr b="0" i="1" lang="en-US" sz="3600" spc="-1" strike="noStrike">
                <a:solidFill>
                  <a:srgbClr val="ffffcc"/>
                </a:solidFill>
                <a:latin typeface="Arial"/>
              </a:rPr>
              <a:t>“The buck stops here”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lamed war on appeasement w/Hitler; not happening with Stali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eets w/Molotov and demands free elections in Polan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lations w/USSR spirals downwar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2806560" y="1709640"/>
            <a:ext cx="9144000" cy="360"/>
          </a:xfrm>
          <a:prstGeom prst="rect">
            <a:avLst/>
          </a:prstGeom>
          <a:solidFill>
            <a:srgbClr val="ff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45200" y="4114800"/>
            <a:ext cx="2098800" cy="27432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Harry S. Truma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8320" y="1905120"/>
            <a:ext cx="24382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.  Potsdam Conference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(7/’45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ruman continues to promote democracy and industry in Germany for economic surviva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talin insists on reparat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ach country continues not to trust the oth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5" name="" descr="Clement Attlee, Harry Truman and Joseph Stalin at the Potsdam Conference, July 194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1752480"/>
            <a:ext cx="3886200" cy="32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atellite Na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ose countries that were controlled by Stalin; to include Eastern Europ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9" name="" descr="File:Eastern-Europe-small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1447920"/>
            <a:ext cx="473220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hurchill’s Iron Curtai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752480" y="914400"/>
            <a:ext cx="601992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5.1: 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:  Origins of the Cold Wa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The political and economic differences between the U.S. and the Soviets are the reasons for the development of the Cold Wa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.  Yalta Conference</a:t>
            </a: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(February 1945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191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1.  Preparing for pea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7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.  Stalin, Churchill, Roosevel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7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.  Free elections in Soviet occupied na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DR and Churchill-  democratic gov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talin- communist gov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7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.  Compromise- recognition of communist govt w/free elections late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8320" y="144792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687240" y="22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495680" y="1828800"/>
            <a:ext cx="4419720" cy="35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.  Dividing German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305920" cy="52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.  Dividing German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.  Split Germany and Berli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2. Stalin also wants Germany to pay repara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125280" y="253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0" name="" descr="Democracy"/>
          <p:cNvPicPr/>
          <p:nvPr/>
        </p:nvPicPr>
        <p:blipFill>
          <a:blip r:embed="rId1"/>
          <a:stretch/>
        </p:blipFill>
        <p:spPr>
          <a:xfrm>
            <a:off x="990720" y="4191120"/>
            <a:ext cx="7235640" cy="16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-838080" algn="ctr">
              <a:buClr>
                <a:srgbClr val="ffffcc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Tensions between U.S. and 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Soviet Union grow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1.  In part, due to Stalin refusing free elect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                                     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ot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558720" y="-9383760"/>
            <a:ext cx="8028000" cy="160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4" name="" descr="sunshine"/>
          <p:cNvPicPr/>
          <p:nvPr/>
        </p:nvPicPr>
        <p:blipFill>
          <a:blip r:embed="rId1"/>
          <a:stretch/>
        </p:blipFill>
        <p:spPr>
          <a:xfrm>
            <a:off x="714240" y="13155480"/>
            <a:ext cx="3429000" cy="3086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58720" y="-9383760"/>
            <a:ext cx="8028000" cy="160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6" name="" descr="sunshine"/>
          <p:cNvPicPr/>
          <p:nvPr/>
        </p:nvPicPr>
        <p:blipFill>
          <a:blip r:embed="rId2"/>
          <a:stretch/>
        </p:blipFill>
        <p:spPr>
          <a:xfrm>
            <a:off x="714240" y="13155480"/>
            <a:ext cx="3429000" cy="3086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2362320" y="2666880"/>
            <a:ext cx="4095720" cy="39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2.  Cold War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ate of hostility, short of direct military confrontation, that developed between the two superpower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523880" y="3373560"/>
            <a:ext cx="640080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.  Incompatible System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.  United Stat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eaeaea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apitalism/private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ropert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eaeaea"/>
              </a:buClr>
              <a:buFont typeface="Verdana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emocracy/fre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lec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. Atomic Bomb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2.  Soviet Un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eaeaea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mmunism/stat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ntrolled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.  Dictatorship/one  leader; no political opposi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eaeaea"/>
              </a:buClr>
              <a:buFont typeface="Verdana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onagressions pac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.  US Blames Depression for Cause of Wa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ations stop trading = war for resourc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refore, promote worldwide trad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905120" y="2492280"/>
            <a:ext cx="594360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2-02-23T20:45:36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